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1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DCD-DB18-4B05-9D87-1C984559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085-029A-472A-8D61-C45A9E7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6BB-EAE3-4D65-9E10-C6B98A00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838-1E59-4675-9EEF-92E1B835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BE1-4514-46D4-8FE4-41D4EE74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48B-3DE9-4F9F-BC74-522D726B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08F-04BC-4A9D-8408-791E703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1B1-33D8-46C2-9F56-61B7C4D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EA6-603E-444C-8C7C-8DB831E6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507-4471-443F-831B-5F3E784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6BA-7924-4AC0-9D65-5A1C8CB2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490-96B5-4586-8D7B-F618BAF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E965-1101-437D-8414-D20B5963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ghtn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666880" y="685800"/>
            <a:ext cx="38102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2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990720" y="490680"/>
          <a:ext cx="7391160" cy="316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90680"/>
                    <a:ext cx="739116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609480" y="4205160"/>
          <a:ext cx="8077320" cy="189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205160"/>
                    <a:ext cx="80773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an electric charge has on other charges in the space around it is the charge’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trength of an electric field depends on the amount of charge that produces the field and on the distance from th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of each field line shows the direction of the force on a positive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457200" y="3657600"/>
          <a:ext cx="3255840" cy="177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25584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4114800" y="3733920"/>
          <a:ext cx="4724280" cy="168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733920"/>
                    <a:ext cx="47242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tudy of the behavior of electric charges, including how charge is transferred betwee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change can be transferred: by friction, by contact, by 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charge is transferre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total charge before = the total charge 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w of conservation of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Charging by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Rubbing a balloon on your hair, walking across a car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ectrons move from you hair to the balloon- balloon becomes negatively charged and hair becomes positive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10080" y="190512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Charging by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Van de Graaff gen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7162920" y="228600"/>
          <a:ext cx="1689120" cy="17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28600"/>
                    <a:ext cx="16891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5450040" y="3479760"/>
            <a:ext cx="384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harging by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Bringing your hand near a doorkn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ge moves within an object beca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transfer of charge without contact between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472428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dis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when a pathway through which charges can move forms sudd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ap between your finger and the doorknob is small enough, the air becomes charged and provides a path for electrons to flow causing a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erty that causes subatomic particles such as protons and electrons to attract or repel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 protons have positive charge, electrons have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he0076l"/>
          <p:cNvPicPr/>
          <p:nvPr/>
        </p:nvPicPr>
        <p:blipFill>
          <a:blip r:embed="rId1"/>
          <a:srcRect l="0" t="0" r="9997" b="0"/>
          <a:stretch/>
        </p:blipFill>
        <p:spPr>
          <a:xfrm>
            <a:off x="5715000" y="3191040"/>
            <a:ext cx="3429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57440" y="33523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Protons =  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lectrons =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   +  (-    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tons       #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atom2"/>
          <p:cNvPicPr/>
          <p:nvPr/>
        </p:nvPicPr>
        <p:blipFill>
          <a:blip r:embed="rId1"/>
          <a:stretch/>
        </p:blipFill>
        <p:spPr>
          <a:xfrm>
            <a:off x="0" y="1371600"/>
            <a:ext cx="5181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ess or shortage of electrons produces a net electric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, a change in the # of electrons causes an electric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se two electric charges were brought closer toge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1371600" y="4038480"/>
          <a:ext cx="1603440" cy="16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038480"/>
                    <a:ext cx="16034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5"/>
          <p:cNvGraphicFramePr/>
          <p:nvPr/>
        </p:nvGraphicFramePr>
        <p:xfrm>
          <a:off x="6858000" y="4114800"/>
          <a:ext cx="1565280" cy="175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4114800"/>
                    <a:ext cx="15652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would at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3121200" y="4114800"/>
          <a:ext cx="1603080" cy="16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1200" y="4114800"/>
                    <a:ext cx="160308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"/>
          <p:cNvGraphicFramePr/>
          <p:nvPr/>
        </p:nvGraphicFramePr>
        <p:xfrm>
          <a:off x="4648320" y="4038480"/>
          <a:ext cx="1565280" cy="175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38480"/>
                    <a:ext cx="15652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Line 6"/>
          <p:cNvSpPr/>
          <p:nvPr/>
        </p:nvSpPr>
        <p:spPr>
          <a:xfrm flipH="1">
            <a:off x="6248160" y="4876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838080" y="4952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se two charges were brought closer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981080" y="3733920"/>
          <a:ext cx="1224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733920"/>
                    <a:ext cx="122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6324480" y="3733920"/>
          <a:ext cx="1225800" cy="137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733920"/>
                    <a:ext cx="1225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would repe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609480" y="3733920"/>
          <a:ext cx="1224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733920"/>
                    <a:ext cx="122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"/>
          <p:cNvGraphicFramePr/>
          <p:nvPr/>
        </p:nvGraphicFramePr>
        <p:xfrm>
          <a:off x="7385040" y="3733920"/>
          <a:ext cx="1225440" cy="1371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5040" y="3733920"/>
                    <a:ext cx="1225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Line 6"/>
          <p:cNvSpPr/>
          <p:nvPr/>
        </p:nvSpPr>
        <p:spPr>
          <a:xfrm>
            <a:off x="571500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182880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 of attraction or repulsion between electrically charged object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ce is described by Coulomb’s Law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/ 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 increases as the charg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creases, and decreases as the distan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3:38:52Z</dcterms:created>
  <dc:creator>Emily Hall</dc:creator>
  <dc:description/>
  <dc:language>en-US</dc:language>
  <cp:lastModifiedBy>Emily Hall</cp:lastModifiedBy>
  <dcterms:modified xsi:type="dcterms:W3CDTF">2011-03-01T14:38:52Z</dcterms:modified>
  <cp:revision>9</cp:revision>
  <dc:subject/>
  <dc:title>PowerPoint Presentation</dc:title>
</cp:coreProperties>
</file>